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3D46-0EDF-4986-8BC8-67B7A115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4ECA-5D32-4347-B7A4-24EE97AB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500-E5E2-4B51-9665-AFA5ADF1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B02C-FE24-4085-97D5-D2725BAB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D9A2-18FE-4022-9146-282DF066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29A-B075-41AE-AA3D-1CAC09FC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131-99C3-42B4-A43E-C857C332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343-5ADC-4743-AC4E-EF851441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FA1-6F79-4AEB-AAC4-73FA11B8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06E-61BF-4B14-9A8D-EA878CD2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4245-30D7-4A49-802C-4BDEC86F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7FDB-78CB-469B-AA3F-BB11A1C9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81DE-EDC3-4437-996C-803792B7B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 22.40 potrka na vrata ženska s 6-letnim jokavim otrokom in ga na rokah prinese v ambulanto, rekoč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včeraj zjutraj šepa, spodbujali smo ga, naj hodi, a ni bilo nič bolje. Danes pa sploh noče več stopiti na desno nogo, jo vleče za sabo in toži za bolečinami pri vsakem premiku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 pregledu ugotov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kcija kolka in kolena brez pose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oleno in gleženj prosto gibljiva, nebole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sni kolk fleksija 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ina: desne dimlje in steg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bljivost 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fleksije (kontraktura), abdukcija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zun. rot.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boleč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videzna skrajšanost desne sp. ekst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vrološki status b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a je naša delovna diagnoz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čni artritis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hodni sinovitis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kutno poslabšanje displazije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drs glavice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atero stanje je treba zdraviti takoj (23h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čni artritis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hodni sinovitis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kutno poslabšanje displazije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drs glavice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j je nujen naslednji korak (ob 23h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oj začeti zdravljenje z antibioti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b. preiskave + UZ ko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Čimprejšnje razgibavanje, lab. preiskave in UZ kolka ju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tg medenice s kolk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do bo opravil UZ kolk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sti, ki je usposobljen za 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a aseptične pogoje za izvedbo punkcije (če bo indicira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 poslal vzorec na mikrobiološki preg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 v primeru gnojnega punktata znal ukrepati napr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E ANTIBIOTIKA, DOKLER NI KUŽN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oratorijske preiskave urgent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 komu bi napotili takšnega pacien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vmatol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fektol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ternistična prva pomo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op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OZ V BOLNIŠ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. preiska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P &lt;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ukociti 8,0 z normalno D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 5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: zmerno velik izliv v desnem ko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596880"/>
            <a:ext cx="739152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9200" y="0"/>
            <a:ext cx="5070600" cy="80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pa zdaj (1h ponoči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RI kolka + punkcija v spl. anestez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unkcija kolka v lok. anestez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prejem v bolnišnico in opaz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vodila o strogem mirovanju, Rp za Naprosyn sirup in do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dravljenje prehodnega sinovitisa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čitek in strogo mirovanje vsaj 1 t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rok naj leži, brez vsakršne h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REZ RAZGIBA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prosyn sirup (NS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vodila glede poslabšanja s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ontrolni pregled/UZ čez 1 t, eventuelni Rtg ob neizboljšanju čez 3 ted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j je treba storiti z očitnim septičnim artritisom kolka (prizadet febrilen otrok, CRP 120, izliv v kolku) ob 1h zjutra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ojšnja antibiotična terap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 in nato antibiotična terap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op. drenaža sklepa, nato a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RI, punkcija, op. drenaža sklepa, a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 otroku je treba ob septičnem artritisu vedno pomisliti na možnost osteomielitisa, zato je potreben MRI (da se izvede pravilna operativna terapij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Žile za prehrano kolčne glavice potekajo INTRAKAPSULARNO, zato zakasnitev zdravljenja pomeni veliko tveganje za aseptično nekrozo kolčne gla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HODNI SINOVITIS KOL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epajoč neprizadet afebrilen 4-8 letnik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m na prehodni sinovitis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ključiti septični artritis, pri starejših otrocih z velikimi BMI pa tudi zdrs kolčne gla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ečinoma mine brez posledic ob pravilni 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hko je to le začetek Perthesove bolez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istvena je klinična slika, SPANJE PONOČI, UZ in laboratorijske preisk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pake: odklonitev pacienta, zakasnitev septičnega artritisa, predpisovanje p.o. antibiotika “za vsak primer” (naj dobi i.v. ali pa nič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HODNI SINOVITIS KOL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vala, ker ste s preiskavami hitro izključili septični artritis in me poslali domov. Zdaj mi bodo starši končno pustili, da v postelji en teden igram Ninte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7150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storite s pacient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oj ga NUJNO napotite v bolni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date napotnico, jutri pregled v bolniš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cienta pregledate in se nato odloč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date Rp za analgetik in ga naročite na pregled naslednji 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j je pomembno vprašati v anamne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iko časa bolečine in kaj ga boli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KO JE SPAL PONOČ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čina? Mrzlica? Viroze zadnji mese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ožilni dejavniki (poškodb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tane bolečine ali pri obremenjevanj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e bolezni, zdravila, aler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čkova mama odgov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ine so drugi dan, boli desno steg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noči se je 1x zbudil zaradi boleč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el vročino do 3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 včeraj, zdaj 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 spomni se poškod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ine pri premikanju ali stoje, leže 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dno ne jemlje zdravil, alergij ne nav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je naš naslednji kora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izkus punkcije kolka in ko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linični pregled spodnjih ekstremi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zdamo napotnico za laboratorijske preiskave vnetnih parametrov (jut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ečka takoj napotimo v bolniš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inični pregled spodnjih ekstremit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kcija (meritve, primerjava z zdra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lpacija (oteklina, izliv ali zadebelit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naki vnetja (rubor, tumor, dolor, calor, f.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seg gibljivosti (iztegnjeno =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fleks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vrološki status spodnje ekstrem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e to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 kolku smo še posebej pozorni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lektorna kontraktura (Thomasov t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bsolutna/navidezna/funkcionalna razlika v dolžini spodnjih ekstrem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epanje v kolku (bolečina, razlika, parez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 kolku si z inspekcijo in palpacijo ne moremo pomagati (debela plast miš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96040" cy="398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5219640" cy="247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29200" y="4038480"/>
            <a:ext cx="38098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2-10-02T16:32:28Z</dcterms:modified>
  <cp:revision>1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